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206-A966-4221-8DAB-3BE986C7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908-EBE1-4F3B-BBEF-35548831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7A401-9B9F-490B-9B5B-AFD6E95E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A572F-8CCE-477D-84C1-9116908B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7DA22-7511-46DB-9139-668D9A10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F5FFE-D912-41C2-9872-7A2E473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8AF07-7802-49EA-B665-C88EBD9A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2F506-A74B-4C94-BC07-B9E515EA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5C186-C725-4A85-B918-86E48AB5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39B4B-358C-428D-9665-6AB0074C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AC2C0-2339-446B-9ABB-3611A028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0F3-E3F4-4AA9-81AA-A31E3E89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AFE-5A6E-4EC8-9B52-ABE7A115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88D4-6656-4240-9744-B2586821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EA03-32F7-49E8-9033-8DFCF19F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7465-FDEB-4D94-AA1F-8864B0A6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61A3-A2A3-4AA2-8B15-083A012E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41BF-1E00-425E-A0F1-090EDB26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0FC1-66E3-4DF7-B081-244CECDC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48B6-AF66-4EEA-9D06-9762A2B5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816-7532-4338-83CD-43BD1351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7CAD-CBFA-43E9-8A2B-6778FAE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4F67-F1A6-440F-BAB5-5AB55877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4652-53E0-41EB-BF2C-4565BCE3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185E-5D61-41AB-BEDD-ABA1F658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DA09-19B7-4942-B03D-5E312F4F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6A56-B30E-40DF-ACDE-3574959C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3EB0-82E1-4AF4-ADF5-020D9D86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F976-B121-4AA4-98B1-C4D40B72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A7E6-96A1-44BD-A684-B25AEA3B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BACC0-8EEF-4CFD-B3B4-5B4DA529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964-32CE-4AC2-B71B-C674B80E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1EE3-E182-44E2-9D0B-C20FCD09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1C4D-845E-423F-9D24-EBE4641F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6571-A759-4074-9F4E-A4DEB20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C6D0-718E-449B-BEA6-3C904CD2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DD7D-A6F2-42A9-BE16-BAB76DBC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CF79-32D6-4B90-A733-4AC598E1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4357-7069-49AF-BE4F-10A1EF0D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5B8C-036C-4988-A3A5-AF825E5E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CB8FF-EA94-46BE-861E-CD3C719A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FFFAA-45F5-4E01-9957-816DA0B7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2C9-D23F-4B38-A4D5-608C6C1E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7A788-00AD-4CF7-AEC8-0992A537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6F7D-21D3-4483-A8B0-A99F75CE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0273-9462-4765-9115-1F34C63C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CD700-0917-4830-B79E-B06A2F1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2301-F4FC-41B0-857B-CB8222FE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F0C3-C00F-4354-B070-968F8626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EBF11-2E30-4F34-B458-1249ECBC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1FE7-54FC-4C99-B29B-94B05EF0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F2D5-FB02-41F8-BCD1-5DF2CB13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5407-060D-4405-862E-E8BEBFEA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C78-6C08-4D07-AFD6-97A7E77A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2B128-8652-4826-9F9E-725E1440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3E442-E718-4F79-9E3E-CAB5B2B1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A1BCD-A32F-4646-808C-2884479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A8EF-53E9-4B65-A38A-BC75AB64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71987-7D7E-4C76-860C-63CB060B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3FAB5-2957-4DF4-9546-5DBE7F0A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7852-6543-4464-BF8C-E581A7B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D964F-9B70-400E-BA30-0987C954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2025E-8F15-4237-B6B9-5AF0E67B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0C34A-4E0F-44C5-8482-394955B7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883-929B-4B40-9E4F-29137856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CF33B-6884-4B3D-8D55-7E6AB0F2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D0350-89BF-4123-9AC3-36B2E35D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7CBF6-4075-4ECC-B3B0-7260A626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707C7-002D-468B-BF58-724096D6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A14D2-3254-4043-A0AC-8C660FC3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6C892-28E1-48F6-B3D6-A1FF3992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DE329-5DD5-48E5-8D43-5297F5C5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46E8-1DD3-4974-AB10-58382A9A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1FD2B-2E46-4B1A-BD8C-88B906FD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2DEC9-13C0-4041-B68E-F808B7AF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7CA-6B41-4264-8FC0-FD02A774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93641-2A7C-43D3-9EC9-2E205F09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2F21B-F2BE-4427-A622-45B36A2B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B51B0-C6F5-4910-A6E2-ECA72761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68AE2-6527-40F3-8DBE-2CD27811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8E082-2B6D-4449-8745-904FDE49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0506E-B5D6-412B-B60F-4BC3FEA3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42FA6-F49D-4997-8222-B023CF56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AA67-18F9-4A5C-B28F-939B9E49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881E6-C2B6-45D5-ACAA-B7222C6E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258A2-038E-462A-B0CE-97AD933E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74D-3AA2-4F56-9ED7-8A99C159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B6ECD-B3B0-4636-AB9D-8A80C84F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CFAA8-1DE6-49B6-9744-B825683E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BCED1-D6E9-4C09-BA4B-304662FA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AD049-68AD-4308-9FDB-EA58D848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AA4CD-2E56-4811-82AE-57734802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28797-D0D3-4447-B50A-A8B3FB7F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BCEC2-AD1F-475E-A642-499AA123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2AA23-CD6E-4E52-89FC-8D4FA0B1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3853C-C12F-4BAC-8A1E-D1BFB3A8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48143-FE48-4F58-AF91-5DFDA717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C89-0F87-451F-9B5C-A9809F11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F1569-757D-406C-8B7E-78B5C044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2EE56-EC22-40F0-BC3A-8AB7E007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C27DC-3EE5-433F-9A7C-04246F82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FC9FC-8AB1-4401-B1C9-61C58563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C3F54-DEA5-4744-A0DE-75CCD711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21045-B1C7-4A5E-99A6-84C4D3F1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BFB85-EF21-4627-9BAA-C2E2BBBC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32BF4-63D4-4D37-87C4-7BAA4F32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0EF94-1C55-49C5-A17A-81AFD0C2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30D7E-BCC8-4015-B391-7D625698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1EEC-15FA-47F4-9431-11D0A7A85DE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9478-AD0B-4B38-A3B6-914B8E6F0608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A849-F7CC-43C5-A4DF-286E01B4C32B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34CB-1710-4968-839B-34E64CC272C0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B2D5-6C66-49B5-A557-D7D1D6244F8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18FD-C171-4B21-9CAA-8991204FFC81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81BF-A73A-4828-8DF8-102537E8020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AD4C-BBD4-4A06-BEBA-313CA188549E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1AB8-3F5E-4DA5-B334-34856EE19385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3.-PROMOCIÓN Y DIFUSIÓN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4.-FASES DE PUESTA EN MARCHA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5.-DOCUMENTACIÓN Y BIBLIOGRAFIA CONSULTADA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7.-ANEX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La empresa se llamará «NATURALCAMP», destinada a la ocupación del tiempo libre y la amenización de la estancia de los usuarios en los campings de veran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Nos encargaremos de llevar a cabo todas la actividades propuestas, gestionar la empresa, adquirir materiales, buscar ayudas económicas y la publicida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1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Ante la crisis económica que estamos atravesando ir de vacaciones de camping es una de las maneras mas económicas para la socieda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El motivo por el cual nos hemos decantado por realizar este proyecto es la falta de recursos y actividades con las que cuenta el camping de Arcos de la frontera y en general todos los camping de España el cual pensamos que podríamos mejorar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2-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1.-Ofrecer un servicio de calida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2.-Elevar los niveles de afluencia de clientes a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3.-Ofrecer un servicio integr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4.-Facilitar la integración mediante actividade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5.-Fomentar hábitos de higiene y salu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6.-Respetar el entorno natural donde esta e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7.-Dar a conocer deportes colectivos e individuales diferentes a los habituale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8.-Inculcar a los usuarios los valores de compañerismo, amistad, respeto a sus compañeros y rivales, disciplina y juego en equip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3-OBJETIVOS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El camping “Lago de Arcos” esta situado en Arcos de la Frontera. Se encuentra situada a una altitud de 185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s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y a 67 kilómetros de la capital de provincia,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ádiz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Se ubica en un cerro junto al río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adalete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Limita al norte con los municipios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pera 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rnos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al noreste con el municipio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llamartin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al este con los municipios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 bosque 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ado del Rey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al sureste con los municipios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naocaz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brique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al sur con los municipios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gar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n José del Valle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y al oeste con el municipio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erez de la Frontera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4-ANALISIS DEL CONTEX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1.6-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5" name="Imagen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858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1827360" y="2209680"/>
          <a:ext cx="5716440" cy="3897360"/>
        </p:xfrm>
        <a:graphic>
          <a:graphicData uri="http://schemas.openxmlformats.org/drawingml/2006/table">
            <a:tbl>
              <a:tblPr/>
              <a:tblGrid>
                <a:gridCol w="1357200"/>
                <a:gridCol w="1355760"/>
                <a:gridCol w="1357200"/>
                <a:gridCol w="16462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MON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PERF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ASIGNADO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PERTENECI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4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Julio Villalba Melgui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(Anexo I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Técnico Superior en Actividad Física y Animación Depor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Grupo TIEMPO LI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empresa: NATURALC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Jesús González Pér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(Anexo 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Técnico Superior en Actividad Física y Animación Depor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Grupo JÓ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empres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NATURALC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Contra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Técnico Superior en Actividad Física y Animación Depor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Grupo FAMIL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empresa: NATURALC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Contra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Técnico Superior en Educación Infant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LUDOTE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empresa: NATURALC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Francisco Calderón Mac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Técnico en Equ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Rutas A CABA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subcontrat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Centro Híp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Mario Martín Sánch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Golf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CAMPO DE GOL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subcontrata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rcos Gard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1-RECURSOS 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2-INSTALACIONES Y MATERIAL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3-RECURSOS ECONÓMIC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18T10:19:19Z</dcterms:modified>
  <cp:revision>20</cp:revision>
  <dc:subject/>
  <dc:title>NATURALCAMP</dc:title>
</cp:coreProperties>
</file>